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675-69E3-469D-BE1E-6DFF4076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393-FEC6-4E0A-893E-49EB2287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307-D453-4ED7-83D3-F081D6F7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5BA-9C1D-4EAF-B976-75E769D3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944F-0ED6-4C61-956D-7C02DBF3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D85-1B72-445C-82F8-8ED02B9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81E-4FA9-4BED-93B6-46E109BA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78C-654A-4AA1-993E-5761F75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E54-F23F-473E-9ECE-1B95692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D19A-4398-4BB3-9781-A6911773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2E1-482E-4D3C-98A7-39914E5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D2E-B4BF-463E-A33A-75530A1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239D-81A6-49B4-87B2-F88C9E7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0483-13C5-40AB-BE09-059D40D5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ADC3-C87C-4A79-9D13-EB23B41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774F-81FD-4127-BD62-12E215A6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09FA-4534-4AAD-BFE3-4125FEFE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33B-B5A9-4301-A71F-079234B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06B-96FC-4A64-870F-3F21CA5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56D-7DDD-43F0-AA90-74D03241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0CF-AC99-4336-8279-ADCE4F9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391-9F3C-4CCB-A81A-C537F30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7B6-06F4-453B-BCA8-642B29A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72E-FB5D-4819-BCFA-32D89A13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D3F5-4905-4B93-BA8A-06B164C4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55EF-1DD0-454B-B341-0E58A7B5A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CCELERA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es how rapidly the velocity of an object is chang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accel car.gif"/>
          <p:cNvPicPr/>
          <p:nvPr/>
        </p:nvPicPr>
        <p:blipFill>
          <a:blip r:embed="rId1"/>
          <a:stretch/>
        </p:blipFill>
        <p:spPr>
          <a:xfrm flipH="1">
            <a:off x="533160" y="1219320"/>
            <a:ext cx="83818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ULA FOR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36640" y="3389400"/>
            <a:ext cx="214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08040" y="281952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0360" y="33130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251240" y="28558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648320" y="274320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8148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IN VELO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181480" y="3276720"/>
            <a:ext cx="2895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18280" y="3618000"/>
            <a:ext cx="260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241960" y="346536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394240" y="338940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ELAP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8108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55960" y="4913280"/>
            <a:ext cx="3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516760" y="4495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413160" y="4379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335268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048120" y="4876920"/>
            <a:ext cx="1904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962520" y="4267080"/>
            <a:ext cx="5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3352680" y="50292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963600" y="4952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5259240" y="4495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791320" y="4800600"/>
            <a:ext cx="1904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6019920" y="419112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400800" y="4724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541188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6248520" y="525780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/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5411880" y="5867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6324480" y="58672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RAGE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r accelerates along a straight road from rest to 75 km/h in 5.0 s.  What is the magnitude of the average accel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02_10"/>
          <p:cNvPicPr/>
          <p:nvPr/>
        </p:nvPicPr>
        <p:blipFill>
          <a:blip r:embed="rId1"/>
          <a:stretch/>
        </p:blipFill>
        <p:spPr>
          <a:xfrm>
            <a:off x="457200" y="2438280"/>
            <a:ext cx="8305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r is moving to the right along a highway. Then the driver puts on the brakes.  If the initial velocity is 15.0 m/s, and it takes 5.0 s to slow down to 5.0 m/s, what is the car’s average accle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02_11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eleration not always negative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car is moving in the negative x-axis direction (left), and it is slowing down, the acceleration would be positive! Let’s do the mat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02_12"/>
          <p:cNvPicPr/>
          <p:nvPr/>
        </p:nvPicPr>
        <p:blipFill>
          <a:blip r:embed="rId1"/>
          <a:stretch/>
        </p:blipFill>
        <p:spPr>
          <a:xfrm>
            <a:off x="4876920" y="2133720"/>
            <a:ext cx="39272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LOCITY VS.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tells us how quickly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tells us how quickly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mouse scared.gif"/>
          <p:cNvPicPr/>
          <p:nvPr/>
        </p:nvPicPr>
        <p:blipFill>
          <a:blip r:embed="rId1"/>
          <a:stretch/>
        </p:blipFill>
        <p:spPr>
          <a:xfrm>
            <a:off x="1447920" y="4800600"/>
            <a:ext cx="32860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TO PON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the velocity of an object is zero, does it mean that the acceleration is ze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the acceleration is zero, does it mean that the velocity is ze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07:38Z</dcterms:created>
  <dc:creator>jluckey</dc:creator>
  <dc:description/>
  <dc:language>en-US</dc:language>
  <cp:lastModifiedBy>jluckey</cp:lastModifiedBy>
  <dcterms:modified xsi:type="dcterms:W3CDTF">2011-08-07T21:15:04Z</dcterms:modified>
  <cp:revision>4</cp:revision>
  <dc:subject/>
  <dc:title>ACCELERATION</dc:title>
</cp:coreProperties>
</file>